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106-024E-4CCC-9E5D-3EE6602E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A26-766A-470A-8230-8BCBB32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908-1245-4DC2-8951-31DB2106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15C-2C77-4705-AC91-77E45AFB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667-78FE-4929-AD22-91D4B744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108-D329-40D8-98C2-F81AD4D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E2B-E99D-4EC2-94E1-4535ABAC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184-E520-4857-873B-235B9ED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FF1-C200-4642-9563-6242647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F3F-263C-46F3-AB5C-D257C79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965-3300-4FDC-B602-2A2C47E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C5A-3580-4852-A0E3-2E099B42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EF8-788E-4A03-92DF-D3537CAF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Can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8.67% Potass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85% Nit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.48%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36.0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FU’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57 grams CaF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the roman num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 chemical name repres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rge on the meta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57 g Ba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43 g Chlo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56.0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atom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247 moles Mg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sium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.96 g Potass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35 g Sul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70 g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0"/>
            <a:ext cx="190512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i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19047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0"/>
            <a:ext cx="18288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 L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2.0 g/m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molecule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44 grams of 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itrogen Pent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% Iron, 30%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0.05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mole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.011 g of NaC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55 m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 Hyd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% Carbon, 6.67% Hydroge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3.33% Oxyg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2.12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gram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495 moles of 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79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ffice 2004 Test Drive User</cp:lastModifiedBy>
  <cp:lastPrinted>2001-01-31T16:21:13Z</cp:lastPrinted>
  <dcterms:modified xsi:type="dcterms:W3CDTF">2008-03-13T16:03:42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